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7BB-F2F7-4700-9ADD-E976AE5E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6E0-8B5A-448C-86B4-94DBE66F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5234D-AC99-4245-8D27-82E30CF2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DB0E8-262E-4B77-9842-D4FF0CF9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978F4-D316-496D-8252-DAB33CF6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ADA6A-AAC7-45F8-B43D-EF406220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B3DD4-15DE-4CB2-894D-B5FF2E0B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13034-808D-4A25-ADA9-B4B1E6A6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B5690-3D23-49B2-809C-BA9552A9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7172C-FC6E-4790-9BB0-4195B7A5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E2EA6-7CAF-4113-A347-EDCEA5A8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03930-4EE3-4F0B-B549-C7E3CEC5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43C9-169D-460E-84F4-611B042D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03E10-D4D1-437C-85A7-4FE86073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BCBF0-517B-4435-8D01-BCDFF909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1FD39-C823-4D47-A08C-777D8825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C89C8-1E33-415F-9B6E-6F34E5E7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54634-A476-4B1B-9CE4-3C7E78F4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F8081-4221-4FC3-956F-2C430EBD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D79A8-3363-48C3-8B46-96AD1B8B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0CD0A-1D66-4B31-8192-CDAB085A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D74EF-3F2F-496D-8D90-BF15CC3C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5CF6B-1B34-4109-8197-18C08899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9D7-B7ED-452D-A95F-E5655B4B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6DA7F-69CD-41A5-8ECB-0B887964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A63A7-5829-4BA3-B10E-E4895CC4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EB9F2-A470-4205-9E9E-4916D958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9BF18-AFF9-4E85-8939-906989D1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34E3E-9A53-4654-A9B7-2DB719AD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0F27B-7EF5-402C-A616-8B7913F0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DDB20-F33E-46C0-87C3-670B8008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6E306-F0AE-41E1-A619-5B973DEF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175B6-16A0-422C-BA1D-97A3889F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34E32-AFA1-41D0-A363-E62379DE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FB53-0FAC-4C9D-848D-141B1156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1053C-1133-4A9D-B759-BD53448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36672-12EA-44A5-AEBE-536E4B5B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5F563-855A-4308-B2AB-62B5618B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D8930-4BBD-4D47-A6D2-9BDD41B4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D9042-5F8D-46D0-BD67-7977377E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E38C6-EC0D-4DC5-86B7-E38868B4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7238C-40F2-406D-A4BE-EA2A6BED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94158-E498-4F59-AD53-BBAD079F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129D6-D6E6-4FDC-AE8C-97C5C462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9D55E-240E-4C19-9862-51757925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04F1-DD40-409B-A2DD-6E78C3DC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337D1-AEBF-48F8-81F8-6EA9444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DE8CA-B4BF-441C-80A6-4C4CD954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49C37-9E41-497D-BD78-58E88F32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EF408-4074-425B-91A1-07BB80C1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828A4-AFA0-4EDB-9FC3-FC316EBE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BC1D3-CBEE-4147-8085-530A93A3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4EDF7-DC91-4C01-8C86-1CE03450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7EFA0-54B6-4314-A333-B040A374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53F55-8391-4A65-AE9F-EDCE28DF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EAC2A-C55E-4C5A-B9E4-E47EFB52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4080-3641-4F5B-BE32-3837B383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B7D62-CA28-4258-BC38-762F6116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7CC53-F65C-4953-B645-07F9D303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F95CB-AC63-4BDD-AC96-8543DBA2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7D810-584C-41E8-A6A4-52742EB3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E7D7B-96C3-4943-9F18-4E255579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027F1-599E-4304-AF71-BD7A4C7D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9A13D-4ADB-461B-B248-188FDA45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80BF0-3FDC-46A9-961D-E7188EA4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2659C-DF47-43E7-BD0F-BA17A82A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69D63-C570-4913-8A57-31404324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6B1B-7FC0-49B7-8ECF-DB771B84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793EB-E786-4358-899E-7C6F756F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B363A-72EF-4D90-AECB-FC4332E9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EBE86-1515-4FE4-9D5E-970E003B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D546C-74F7-4F2A-B1F2-3B38371A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F8F9B7-0ABE-498C-9C95-7C316D68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EEB54-D2CF-488F-8FCA-8F868E8E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03353-7D56-4182-B17C-72C69743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F1DF8-0978-4022-82E3-D251C47E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B7E80-2BA3-4D81-8923-566F89C1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DA0E8-2459-4647-B6AA-5E5B6891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97BB-8F4A-4ADD-8334-35009D02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769729-C382-40DE-928C-78315246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9EC39-16BE-4191-87F9-B0519410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75C5E-C590-4ABC-BBAB-A0AD350A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53825-0956-4323-9A38-271B60AE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1A02A5-757F-4F07-ABB7-18C8850A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27C25-C52C-4147-817A-CD5B6236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7C7A0-2391-496F-AF3E-33C4EA9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9EE62-05D2-4E9A-A5E1-E0A0F63B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49813-7185-4F3C-A7DD-38D20AB0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ACD99-E18B-4C3F-9244-52F435A7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AC81-C955-44D9-8535-1B6ADAA8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8D326-A8A6-438F-929A-265C6B13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F831A-7763-4D25-803A-563DB72C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223CD-422B-4B8E-B199-6A6B3898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C8E95D-3EF5-4EB2-B896-835C2525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F383E-0743-4B89-8960-4F5F0205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48D2E-0B70-4047-8F85-EFE962C7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015B0-C6C5-499A-A490-A3E614DD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95A18-DAAB-4B2C-AB89-3CE9C1E4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FB10F-CCA5-4B84-A487-519FF865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40A20-569D-45E5-B21D-FE5E2402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6C7E-F0EC-43FB-8307-4D6872C1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BEC0B-FF83-4AEF-8BF6-679902F6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3A2687-6F6F-48A1-AFE3-3D03C2F5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45C10-52CC-45AF-85BB-07B5BF0B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9905A6-C6FB-46DF-938A-051E637F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001476-C3DE-4229-A5C5-A7D4746E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5DB54-A3CB-4BE9-99D8-83324632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0B7FD7-61A0-4468-B692-46B6C659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D8942F-8867-47F9-BF86-D9E5F083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AE98FC-486F-4491-A04D-B015BDD0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6E0805-12EC-4387-A15E-8EA71A14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72E-C992-4141-8768-69B204EB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5B61-1AE3-49AD-8586-EA37CC6D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5B2005-C3CD-4657-8BCC-4F81D190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19E2D-9709-402B-A09C-DF2A0702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D91EC-1B30-44C4-B95F-584214A2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DB44B-25BC-44C1-AED5-09DB8085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FB9FD-2410-4D66-9B96-90638ABE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49AE45-E935-48C5-9311-B039ED33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59C70-FA73-4D00-A747-1A9FDDFA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2F7F10-7511-40EF-9DA4-116734EE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EC941E-CFA1-409E-92C6-174B7F25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FFB8E-A87C-41AF-9083-42CA7CF2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0461-87D3-4A9A-B468-DCE224E4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4A7EB-C216-4467-B6A8-DD79D353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03826-67FA-4F5D-91F6-A6507809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BBCAC-6DCD-4021-A12F-5B8C4BF9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ACF6BB-F3BA-443D-896F-995D4757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631F55-1CA5-49B3-9D0F-53AC07FB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9165D8-F1BE-4626-92C9-2AABA896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04A3D-2452-4772-90F1-BE25740B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5478B5-5F77-46EF-9D15-8E4C06D9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BDFB35-4CCD-4E34-977F-D57E9F4E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36BCB-10D5-4283-9D02-869C8A43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25CE-9C71-46CA-BBA0-01F3CEF4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FD8FF5-68E1-4F11-BF56-00E12186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EEBD0F-C3DB-435D-AFF8-D7E904DC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E1FE0B-96BD-420E-BFCB-DA26E39A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AB55C0-3CC9-42A8-B074-C0EA4960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7AEF47-819D-4212-BE1D-297DE26D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5C057-43D3-4168-97B2-E08EDB80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F23B4A-E8E7-467F-806B-DCD9E5BD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893EC-6DF9-4A08-81DC-31D82411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3E723E-391F-45FF-A0CC-53AAC703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F3BC5F-FD7F-4E22-95D6-FA53B79C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7F04-17DB-4958-A4AB-F5605048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87D38B-34D6-4D73-B6D1-132A4FD0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0E44D-1B31-4C9A-B4A7-A97A37E8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7FEA48-083A-49CD-8B5C-E0023803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A9BF6D-46F1-4064-87BC-8CDB8009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4291C-583C-4459-9DCA-38C280AB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4F4489-C967-425D-A8AF-6BF27A62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39A66D-7213-4BA8-803D-AC34E20B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B5CC9E-E792-438B-80A0-2DE48484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88A8C4-5556-4761-9BB5-E8B05433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1B2D80-94DC-4AFF-A93D-31424E5F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6B10-4624-4C0B-8CEF-A6CDC593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8E12B5-BFB6-4BC7-876F-1BF062D8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97E2DA-7855-4458-BA34-C2B73FAA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DC5BC6-9685-446A-93D3-CBB01948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421106-5557-4F8A-B097-933C54FE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2D79AB-2EF8-48D7-B7CD-3153E85A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74151C-8E2F-49B4-919A-DEFB9EA4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1CFAAC-693B-4BEC-B9B6-CB56238F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291078-041C-4EDC-B930-8FF382C9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A321B2-43C8-4CB1-B11D-128CB1A6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E5E824-0FB2-4B08-9B50-4C62AEC5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5411-3A47-40F4-A8A3-4D24830F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5BFEBA-9809-412D-8DCC-20FC5B9B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EC41FC-B60F-424B-8548-2A946ECD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DE62C7-C4CB-48C2-BCEB-9BCC7A9F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4207-7F24-4CE6-BC63-56F88832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47320-941B-40CC-8FC0-D04006EA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956F-70A1-4C13-BF09-774507C1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6F4F2-A647-45D3-9033-7B6957F8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BF0-C25A-404D-9FC7-29ED4561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EA28-2924-4406-A0F3-B58F14C0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4E9B-5B70-48DB-B17D-E7AF5189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D6424-A933-462C-A649-D2AEB6D9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BAE48-9210-42CC-9578-FF25083F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3671B-3404-4576-918B-4C06A42F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68A38-6F48-41A9-A1E1-1438D427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9E2DB-A54F-4175-B6C4-88C458FC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3AF2C-FAE0-4C72-8406-154DCB3D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1023A-0BF2-431C-BB93-7080B8B8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3BF9-55C0-4334-8005-E0E2110E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893-5738-4FF1-85D3-926111F7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86D9C-4972-419B-BBF7-6C1EEBF2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B70C9-B75B-4EA3-8615-8C71DDF0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918B-44CF-423A-A4F2-5566D47F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4026F-57EC-4BAA-8251-E08F3D09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3DAB-A479-4AC6-AC17-65238474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FB507-4056-4460-AE6C-4E69C464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3ACE-7039-4751-9A61-B9E2CDAF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45EF8-291D-411A-A05F-93ED1B77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1F94A-9888-4C5D-8298-44018BEE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EC941-4023-4962-B543-846E5318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7B1-7C00-4640-9353-B338B2D4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AB42-F726-4F3A-A4F6-CEBF494D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50CDE-E03E-4BAF-8C94-52F9A463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65B11-AADA-4B34-95D3-425229B7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A3547-5E1B-4E78-AB00-3C33C285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ED7E5-6CBB-40F5-992A-21AECA2C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CADAF-F575-4FFB-A8A3-6C846186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69D65-5315-4F42-B21D-3F2BFD86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512A1-8197-45B1-BD00-81465617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050CC-5821-42C5-8C05-B8BDEB55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68C28-E1EF-437A-92DA-896DBC80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029-F2AF-4A4E-AFAA-24EE4745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A39BC-96FD-472A-BBF6-22C7EC12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5F658-9C87-4DF4-81EF-E18B4502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305B-D1C2-4A27-96F3-1754535B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D81F4-4449-4AB6-804F-51DD1D63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1CB27-176A-475A-AF22-1527CA44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7C07-2AAC-404D-9B8D-BF5D7B75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34BFE-CA22-4E9E-8EA2-65DDB757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24198-A802-4BE8-BBFA-0423B745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FE76F-D203-4528-8456-D08D532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0C40C-6549-492B-A26F-25F7C5E7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275-B65B-446D-8D47-0457DF75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84C7E-2644-46D9-B519-DD2D8AB4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B4D03-4869-4D50-A0A9-76845F86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74498-E2E3-43EA-B029-FADAB427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5CEC7-84E7-41E2-AD68-B41DA003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A8A1D-412C-47E0-9322-CAA2B1DC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1289F-2C6C-42B1-B8D7-41F4B43D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6D7F8-C21E-427F-B7AA-81E0E971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6A4DD-E787-4A05-A23B-12E5C7B8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F6E81-674F-4F92-89C3-AF7F4230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539F3-DE32-4EC6-9D55-4AC51642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79F-F929-4586-B5C8-A336E3E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DB4DE-E1AA-4F98-98E2-5230A0F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D6706-93E2-4E98-9EC8-2CCB76D4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87780-A81A-4ABE-96D8-A9E1C13F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418CA-13DA-461C-878A-70F7E7BA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B884B-8985-48F0-9A89-CD41688B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8884B-C68F-408F-AF71-1DC97C99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56D1D-9F15-4450-9D2B-D9D36F85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4BB0A-15BA-4DAD-98CF-C085D720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3D679-7100-4FA8-B338-07467D2E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CC025-0778-47A2-8954-81972690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346-3649-49F7-ADBC-4E40C3D9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C9107-DEBA-455B-BAC9-ADD05236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88A4F-2918-4B0D-A699-A26A5E1F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33E4D-9C4E-4BC2-A0C8-51A766C9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4618E-E015-44DC-BD8C-C1DE10AA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8DC97-E161-4D4F-8913-CBFD6C76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B7977-BC89-473F-B7FB-8DA880C4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5277A-A18F-47F7-86BB-069C79DD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8708F-0067-45E2-9D65-1D12A7FC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EAB5E-20B1-43C6-9248-E180AB9A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D2B6B-14DC-4CC6-95ED-3AE6993D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8A48-DB20-4F7E-AF13-26EA51324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EA0F-6849-40AC-A3B0-8B58118740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37FE-3373-45A5-B0A6-051A145791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CD39-2CC1-4DD5-B374-36FAA151B4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8378-F6AA-470E-AEA8-8BD97EE614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0628-FD0B-4454-8227-631F3C5E53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D9F7-87D1-4B57-A410-69717E33FF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67B1-31A4-4CCD-B6BF-EEC1DAF2EC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7C3B-9E39-4D7B-8A92-8775757581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108B-B6D8-4F76-87E2-D502E0C5E8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25A3-4AC0-4DC2-A816-A9A7B23B99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3425-210B-4089-9F26-8B05AF9325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389C-581C-4166-A58C-B6607236BD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CEE6-F866-44BE-825A-E7704056C0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3ABC-D8DE-485F-9A7D-73F6FE5AEB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1981-107B-4536-9726-49C1842097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EE9D-893B-4F19-BE84-8322DA36F5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6E31-870B-487B-BC8E-6662BCB7E2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DCFC-9F60-4B9B-9153-EF39CAB4A6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DCBB-8E9C-485C-8437-F15D890165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0CDA-AC68-4427-90AF-CA7041711E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3A8A-37D6-4723-88AE-D670EB9A31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6890-43FC-4814-AA47-5D3E6CFAC3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A1CC-14C2-4879-B60E-60E1A20A33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1E90-F68C-4BB4-86C6-323D206148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38AD-0D66-4830-841D-F50D7DD2D9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B8C6-CD5D-4660-B8AE-999C5CE478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4432-CC16-4517-BFF5-F0E7C24EC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737B-44D7-4167-97C0-23D5AC31AA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804F-AD7A-46D6-9AC7-F8C5B32436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F9D3-E23F-4CD7-9D12-058739523F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BFE3-471A-4386-A8CF-8217DE2FF7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2621-2F91-4B45-BA0C-8E7A232933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11F1-FC35-4A71-AFEB-40DECC0069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E4D3-A294-4765-96F8-F31BA15585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2C42-7009-4890-8BBB-7068B9F195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2934-18DF-4162-A3E5-FAA6E7502C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5767-5B75-44E0-97AF-AE14001F43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2344-310C-4674-890F-1864E90A47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C5C9-259A-436D-8578-76264707AA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214280" y="2000160"/>
            <a:ext cx="6791400" cy="1104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2" descr=""/>
          <p:cNvPicPr/>
          <p:nvPr/>
        </p:nvPicPr>
        <p:blipFill>
          <a:blip r:embed="rId2"/>
          <a:stretch/>
        </p:blipFill>
        <p:spPr>
          <a:xfrm>
            <a:off x="3000240" y="3143160"/>
            <a:ext cx="31435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1081080" y="3105000"/>
            <a:ext cx="69818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15480" cy="578160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928800" y="242892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857160" y="428616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8134200" cy="614376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1000080" y="78588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928800" y="242892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928800" y="507204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29600" cy="15336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2" descr=""/>
          <p:cNvPicPr/>
          <p:nvPr/>
        </p:nvPicPr>
        <p:blipFill>
          <a:blip r:embed="rId2"/>
          <a:stretch/>
        </p:blipFill>
        <p:spPr>
          <a:xfrm>
            <a:off x="642960" y="2214720"/>
            <a:ext cx="8067600" cy="4105080"/>
          </a:xfrm>
          <a:prstGeom prst="rect">
            <a:avLst/>
          </a:prstGeom>
          <a:ln w="0">
            <a:noFill/>
          </a:ln>
        </p:spPr>
      </p:pic>
      <p:sp>
        <p:nvSpPr>
          <p:cNvPr id="1034" name="矩形 3"/>
          <p:cNvSpPr/>
          <p:nvPr/>
        </p:nvSpPr>
        <p:spPr>
          <a:xfrm>
            <a:off x="6500880" y="1285920"/>
            <a:ext cx="17143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3535200" y="2249640"/>
            <a:ext cx="107172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6357960" y="3214800"/>
            <a:ext cx="8571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3000240" y="4572000"/>
            <a:ext cx="10717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"/>
          <p:cNvSpPr/>
          <p:nvPr/>
        </p:nvSpPr>
        <p:spPr>
          <a:xfrm>
            <a:off x="3071880" y="5572080"/>
            <a:ext cx="1000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495360" y="1095480"/>
            <a:ext cx="8153280" cy="466704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6858000" y="1643040"/>
            <a:ext cx="128592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4643280" y="2571840"/>
            <a:ext cx="11430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5214960" y="3500280"/>
            <a:ext cx="307188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"/>
          <p:cNvSpPr/>
          <p:nvPr/>
        </p:nvSpPr>
        <p:spPr>
          <a:xfrm>
            <a:off x="4857840" y="4429080"/>
            <a:ext cx="22143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6"/>
          <p:cNvSpPr/>
          <p:nvPr/>
        </p:nvSpPr>
        <p:spPr>
          <a:xfrm>
            <a:off x="3000240" y="5357880"/>
            <a:ext cx="14288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485640" y="795240"/>
            <a:ext cx="817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514440" y="2033640"/>
            <a:ext cx="81151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452520" y="1290600"/>
            <a:ext cx="8238960" cy="427680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928800" y="1785960"/>
            <a:ext cx="2286000" cy="350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1285920" y="2714760"/>
            <a:ext cx="3429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928800" y="4143240"/>
            <a:ext cx="14284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"/>
          <p:cNvSpPr/>
          <p:nvPr/>
        </p:nvSpPr>
        <p:spPr>
          <a:xfrm>
            <a:off x="1214280" y="5072040"/>
            <a:ext cx="43578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1:3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